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186-799D-46F4-B6AA-9FB4D44E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366-4A0A-4400-B2D9-F405F731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547-EA45-451C-81C0-F78F19D2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385C-C15E-42B2-8B1A-CE59037C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987A-8911-4890-B67E-20638296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E58-7A68-4C2F-82C2-6B816F8B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379-BD42-4FA0-9203-33810ABF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D7C9-79DF-43DA-95C8-85238900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393-83AC-4458-AFF1-8F1BC171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BE8F-50FD-42EC-B092-4C5A1D78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677-5303-43FD-BAFD-1EE2983E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D855-9CFE-4B3B-B3D5-AA379FCA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BAD-31AE-4137-8244-8C857341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42AC-19F3-45CA-8B27-73A29E75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23E-19E4-412D-B2E6-795DD206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650-CBE4-43CF-A165-CB052642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D9E-A3CD-49F6-ABFB-4BEC4646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D5D6-4CC7-4DC0-A34C-5507FC06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C3C-C43E-48A3-BEA4-247A1D7E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7840-C3C8-42C4-8CFD-52481957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86EE-9D61-4488-B0C1-AAE9E040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C16B-CCA6-41C0-AB53-49B25E51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02FF-2193-4E34-BDCF-3A442B53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A0B-8049-48CD-872F-EF1F1822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C0BB-7A2B-46B5-B0E6-DE8DAD2F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105-0470-41A8-AE38-094C6081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C90-49F4-4682-A584-ADB513EC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813-1247-41FF-A45F-12336F86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1B0-B121-4863-A7EA-506F7559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99A-A5F3-4546-A60E-8BE6E116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543-5E64-4FA5-93C7-FD7FEA74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2E3-6A13-4D20-837E-DF1C93B4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2F9C-62B9-4DD7-BE42-4FFC13D0E4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C0FD-FC27-414B-8BD9-A592213D4F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3F08-445A-4F5D-9DB0-9837F1932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9259E-5E91-4711-B93A-4885DEA2E3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BE29-0A82-4958-9C69-D59BB82D6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789-460F-41B2-9375-B712887D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837EF-BF70-41DC-A2A0-99D250C15F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D8B92-EC03-4B54-8FEF-EBD13AAE73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60C3-C4C3-47DA-8B55-2D47DFA506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1BF3-DB16-4092-A6F0-763F0A4458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C2A49-4C73-4FEF-8DF6-07278BB256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7EF0-1757-483F-9BDC-53C39E3B60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C0D4F-C480-43F4-B9FB-33B20AEC7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ACF-893A-4870-AFC3-773AD2FA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E0F-B6DD-40BA-9EEC-835C8835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9B3-2FAF-454A-BF66-A2F7A77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415-A900-41FB-B60F-81FC434E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328-045E-468C-9B80-03DC618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D71-3BA4-486C-927F-EE1E456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594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1, Slide </a:t>
            </a:r>
            <a:fld id="{37465AF2-69A4-48DB-BC77-B2B7917BE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57240">
            <a:solidFill>
              <a:srgbClr val="99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8" descr="bozarth-chapter11"/>
          <p:cNvPicPr/>
          <p:nvPr/>
        </p:nvPicPr>
        <p:blipFill>
          <a:blip r:embed="rId2"/>
          <a:stretch/>
        </p:blipFill>
        <p:spPr>
          <a:xfrm>
            <a:off x="457200" y="209520"/>
            <a:ext cx="900000" cy="12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Ducks-Strip"/>
          <p:cNvPicPr/>
          <p:nvPr/>
        </p:nvPicPr>
        <p:blipFill>
          <a:blip r:embed="rId2"/>
          <a:stretch/>
        </p:blipFill>
        <p:spPr>
          <a:xfrm>
            <a:off x="455760" y="3252960"/>
            <a:ext cx="8231040" cy="350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228240" y="6244920"/>
            <a:ext cx="624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, Slide </a:t>
            </a:r>
            <a:fld id="{EBACEC7E-C67B-4202-963B-C733D34F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3720" y="2793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08D5155-213C-46B2-9148-B4FBB344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27400" y="3044880"/>
          <a:ext cx="4454640" cy="2311200"/>
        </p:xfrm>
        <a:graphic>
          <a:graphicData uri="http://schemas.openxmlformats.org/drawingml/2006/table">
            <a:tbl>
              <a:tblPr/>
              <a:tblGrid>
                <a:gridCol w="2228760"/>
                <a:gridCol w="2225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nigh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 to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174" name="Text Box 16"/>
          <p:cNvSpPr/>
          <p:nvPr/>
        </p:nvSpPr>
        <p:spPr>
          <a:xfrm>
            <a:off x="3381480" y="26226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upplier A        Supplie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538280" y="3067200"/>
            <a:ext cx="199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Cost per val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% goo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Delivery </a:t>
            </a:r>
            <a:br>
              <a:rPr sz="2400"/>
            </a:b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le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93720" y="177804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ing dialysis machine v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4E27CA3E-3FF3-4484-9E59-F2448360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93720" y="170028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defective dialysis machine v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70040" y="2968560"/>
            <a:ext cx="81802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ion in patient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cheduling difficul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in the effective capacity for di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medical emergencies</a:t>
            </a:r>
            <a:br>
              <a:rPr sz="2600"/>
            </a:br>
            <a:br>
              <a:rPr sz="2600"/>
            </a:br>
            <a:r>
              <a:rPr b="0" i="1" lang="en-US" sz="2800" spc="-1" strike="noStrike">
                <a:solidFill>
                  <a:srgbClr val="990098"/>
                </a:solidFill>
                <a:latin typeface="Arial"/>
              </a:rPr>
              <a:t>Estimated cost of a failed valve = $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561CD950-7E10-4FF4-8D4F-CF277485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921040" y="304488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upplier A                  Supplie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31880" y="3467160"/>
            <a:ext cx="199692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Valve cos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Failure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Backup inventor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01480" y="1623960"/>
            <a:ext cx="837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ing 50 dialysis machine valv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otal Co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75080" y="3505320"/>
          <a:ext cx="5991120" cy="2587680"/>
        </p:xfrm>
        <a:graphic>
          <a:graphicData uri="http://schemas.openxmlformats.org/drawingml/2006/table">
            <a:tbl>
              <a:tblPr/>
              <a:tblGrid>
                <a:gridCol w="2995560"/>
                <a:gridCol w="299556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$10 = 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x $2 = 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x 50 valves x $1,000 = 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x 50 valves x $1,000 = $2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valve x $10 = 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lves x $2 = $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C90A13A2-62FA-4FBD-AF1D-9C67C670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4149720" y="54975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lement &amp;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149720" y="597060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s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149720" y="50259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pt and insp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4149720" y="455292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up and exp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4149720" y="407988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e order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4149720" y="3639960"/>
            <a:ext cx="3340080" cy="31140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4520" y="3032280"/>
            <a:ext cx="3340080" cy="5047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ier identificat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4149720" y="21351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4149720" y="166212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149720" y="254628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there a preferred suppl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5800680" y="39290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800680" y="2852640"/>
            <a:ext cx="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306520" y="269892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5800680" y="2470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5800680" y="4389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5800680" y="4849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5800680" y="5349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5800680" y="5810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5800680" y="19699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H="1">
            <a:off x="2306520" y="2698920"/>
            <a:ext cx="17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035160" y="235440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62520" y="300672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1268280" y="274680"/>
            <a:ext cx="741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V="1">
            <a:off x="2306520" y="354456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2306520" y="3774960"/>
            <a:ext cx="18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>
            <a:off x="7567560" y="4043520"/>
            <a:ext cx="268200" cy="2265120"/>
          </a:xfrm>
          <a:custGeom>
            <a:avLst/>
            <a:gdLst>
              <a:gd name="textAreaLeft" fmla="*/ 0 w 268200"/>
              <a:gd name="textAreaRight" fmla="*/ 188280 w 268200"/>
              <a:gd name="textAreaTop" fmla="*/ 94320 h 2265120"/>
              <a:gd name="textAreaBottom" fmla="*/ 2170800 h 22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7875720" y="4849920"/>
            <a:ext cx="7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rder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B7E15608-0859-4028-8962-E7CDEFE11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346040" y="274680"/>
            <a:ext cx="733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309600" y="1892160"/>
            <a:ext cx="2190600" cy="2803320"/>
            <a:chOff x="309600" y="1892160"/>
            <a:chExt cx="2190600" cy="2803320"/>
          </a:xfrm>
        </p:grpSpPr>
        <p:sp>
          <p:nvSpPr>
            <p:cNvPr id="223" name="AutoShape 4"/>
            <p:cNvSpPr/>
            <p:nvPr/>
          </p:nvSpPr>
          <p:spPr>
            <a:xfrm>
              <a:off x="1063440" y="422568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1063440" y="44985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1063440" y="395100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1063440" y="3676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1063440" y="34016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1063440" y="3146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309600" y="2793600"/>
              <a:ext cx="712800" cy="2923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1063440" y="227160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426960" y="1892160"/>
              <a:ext cx="207324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eds 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1415880" y="3314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1406520" y="261612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669960" y="2599920"/>
              <a:ext cx="14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415880" y="244440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1415880" y="358128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415880" y="384768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1415880" y="413820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>
              <a:off x="1415880" y="440676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1"/>
            <p:cNvSpPr/>
            <p:nvPr/>
          </p:nvSpPr>
          <p:spPr>
            <a:xfrm>
              <a:off x="1406520" y="219060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 flipH="1">
              <a:off x="669960" y="258732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 flipH="1" flipV="1">
              <a:off x="669960" y="309060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669960" y="322380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5"/>
            <p:cNvSpPr/>
            <p:nvPr/>
          </p:nvSpPr>
          <p:spPr>
            <a:xfrm>
              <a:off x="1792080" y="338112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6"/>
          <p:cNvSpPr/>
          <p:nvPr/>
        </p:nvSpPr>
        <p:spPr>
          <a:xfrm>
            <a:off x="2843280" y="1600200"/>
            <a:ext cx="58752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Purchase requisition –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internal document completed by a user that informs purchasing of a specific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Reorder point system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method used to initiate the purchase of routine items. Typically, each item has a predetermined order point and order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Statement of Work/Scope of Work (SOW) –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rms and conditions for a purchased service. Includes how supplier will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F857C7E0-4E7F-423B-ADFF-4EF8B03E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346040" y="274680"/>
            <a:ext cx="737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805120" y="3083040"/>
            <a:ext cx="61466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market grade/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prototypes or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7760" y="1892160"/>
            <a:ext cx="2111400" cy="2841840"/>
            <a:chOff x="347760" y="1892160"/>
            <a:chExt cx="2111400" cy="2841840"/>
          </a:xfrm>
        </p:grpSpPr>
        <p:sp>
          <p:nvSpPr>
            <p:cNvPr id="251" name="AutoShape 5"/>
            <p:cNvSpPr/>
            <p:nvPr/>
          </p:nvSpPr>
          <p:spPr>
            <a:xfrm>
              <a:off x="1101600" y="4263840"/>
              <a:ext cx="712800" cy="17964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"/>
            <p:cNvSpPr/>
            <p:nvPr/>
          </p:nvSpPr>
          <p:spPr>
            <a:xfrm>
              <a:off x="1101600" y="4537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1101600" y="398952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1101600" y="371484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9"/>
            <p:cNvSpPr/>
            <p:nvPr/>
          </p:nvSpPr>
          <p:spPr>
            <a:xfrm>
              <a:off x="1101600" y="34401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0"/>
            <p:cNvSpPr/>
            <p:nvPr/>
          </p:nvSpPr>
          <p:spPr>
            <a:xfrm>
              <a:off x="1101600" y="31845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1"/>
            <p:cNvSpPr/>
            <p:nvPr/>
          </p:nvSpPr>
          <p:spPr>
            <a:xfrm>
              <a:off x="347760" y="2832120"/>
              <a:ext cx="712800" cy="29196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2"/>
            <p:cNvSpPr/>
            <p:nvPr/>
          </p:nvSpPr>
          <p:spPr>
            <a:xfrm>
              <a:off x="1076400" y="18921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3"/>
            <p:cNvSpPr/>
            <p:nvPr/>
          </p:nvSpPr>
          <p:spPr>
            <a:xfrm>
              <a:off x="385920" y="2160720"/>
              <a:ext cx="207324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1454040" y="335268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1444680" y="2654280"/>
              <a:ext cx="936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708120" y="2638440"/>
              <a:ext cx="14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422360" y="249552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145404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>
              <a:off x="1454040" y="388620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1454040" y="417672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1454040" y="444492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1422360" y="2084400"/>
              <a:ext cx="180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 flipH="1">
              <a:off x="708120" y="262584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 flipH="1" flipV="1">
              <a:off x="708120" y="3128400"/>
              <a:ext cx="144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5"/>
            <p:cNvSpPr/>
            <p:nvPr/>
          </p:nvSpPr>
          <p:spPr>
            <a:xfrm>
              <a:off x="708120" y="3262320"/>
              <a:ext cx="393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6"/>
            <p:cNvSpPr/>
            <p:nvPr/>
          </p:nvSpPr>
          <p:spPr>
            <a:xfrm>
              <a:off x="1830600" y="3419280"/>
              <a:ext cx="56880" cy="1314720"/>
            </a:xfrm>
            <a:custGeom>
              <a:avLst/>
              <a:gdLst>
                <a:gd name="textAreaLeft" fmla="*/ 0 w 56880"/>
                <a:gd name="textAreaRight" fmla="*/ 39960 w 56880"/>
                <a:gd name="textAreaTop" fmla="*/ 54720 h 1314720"/>
                <a:gd name="textAreaBottom" fmla="*/ 1260000 h 131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2651040" y="1739880"/>
            <a:ext cx="6183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The communication of a user’s needs to potential suppliers in the most efficient and accurate way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41110F4E-DD45-4E45-862F-879B1B12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46040" y="27468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dentification and Evaluation -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93680" y="1778040"/>
            <a:ext cx="3152880" cy="2689200"/>
            <a:chOff x="193680" y="1778040"/>
            <a:chExt cx="3152880" cy="2689200"/>
          </a:xfrm>
        </p:grpSpPr>
        <p:sp>
          <p:nvSpPr>
            <p:cNvPr id="278" name="AutoShape 4"/>
            <p:cNvSpPr/>
            <p:nvPr/>
          </p:nvSpPr>
          <p:spPr>
            <a:xfrm>
              <a:off x="2554560" y="1778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"/>
            <p:cNvSpPr/>
            <p:nvPr/>
          </p:nvSpPr>
          <p:spPr>
            <a:xfrm>
              <a:off x="2560680" y="399744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2560680" y="4270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2560680" y="372276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560680" y="3448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"/>
            <p:cNvSpPr/>
            <p:nvPr/>
          </p:nvSpPr>
          <p:spPr>
            <a:xfrm>
              <a:off x="2560680" y="31734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2560680" y="29178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>
              <a:off x="2560680" y="20433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2913120" y="308628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2903760" y="238788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>
              <a:off x="2152800" y="2314800"/>
              <a:ext cx="2232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>
              <a:off x="2913120" y="2216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2913120" y="3353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291312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2913120" y="390996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913120" y="4178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>
              <a:off x="2903760" y="196236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2152800" y="231480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 flipV="1">
              <a:off x="2167200" y="286236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>
              <a:off x="2167200" y="299556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4"/>
            <p:cNvSpPr/>
            <p:nvPr/>
          </p:nvSpPr>
          <p:spPr>
            <a:xfrm>
              <a:off x="3289320" y="315288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"/>
            <p:cNvSpPr/>
            <p:nvPr/>
          </p:nvSpPr>
          <p:spPr>
            <a:xfrm>
              <a:off x="193680" y="2430720"/>
              <a:ext cx="2303640" cy="50472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 identification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26"/>
          <p:cNvSpPr/>
          <p:nvPr/>
        </p:nvSpPr>
        <p:spPr>
          <a:xfrm>
            <a:off x="3919680" y="2738520"/>
            <a:ext cx="47624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complexity of the produ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servic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amount of money that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mmitted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length of the propo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uyer-supplier relationshi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3419640" y="2276640"/>
            <a:ext cx="560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The amount of effort increases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999F1943-B477-4D2E-A731-1B53D0AD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"/>
          <p:cNvGrpSpPr/>
          <p:nvPr/>
        </p:nvGrpSpPr>
        <p:grpSpPr>
          <a:xfrm>
            <a:off x="193680" y="1778040"/>
            <a:ext cx="3152880" cy="2689200"/>
            <a:chOff x="193680" y="1778040"/>
            <a:chExt cx="3152880" cy="2689200"/>
          </a:xfrm>
        </p:grpSpPr>
        <p:sp>
          <p:nvSpPr>
            <p:cNvPr id="305" name="AutoShape 3"/>
            <p:cNvSpPr/>
            <p:nvPr/>
          </p:nvSpPr>
          <p:spPr>
            <a:xfrm>
              <a:off x="2554560" y="1778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2560680" y="399744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2560680" y="4270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6"/>
            <p:cNvSpPr/>
            <p:nvPr/>
          </p:nvSpPr>
          <p:spPr>
            <a:xfrm>
              <a:off x="2560680" y="372276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2560680" y="3448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2560680" y="31734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9"/>
            <p:cNvSpPr/>
            <p:nvPr/>
          </p:nvSpPr>
          <p:spPr>
            <a:xfrm>
              <a:off x="2560680" y="29178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2560680" y="20433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2913120" y="308628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2903760" y="238788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 flipH="1">
              <a:off x="2152800" y="2314800"/>
              <a:ext cx="2232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2913120" y="2216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2913120" y="3353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6"/>
            <p:cNvSpPr/>
            <p:nvPr/>
          </p:nvSpPr>
          <p:spPr>
            <a:xfrm>
              <a:off x="291312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2913120" y="390996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2913120" y="4178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>
              <a:off x="2903760" y="196236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>
              <a:off x="2152800" y="231480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 flipH="1" flipV="1">
              <a:off x="2167200" y="286236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>
              <a:off x="2167200" y="299556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3"/>
            <p:cNvSpPr/>
            <p:nvPr/>
          </p:nvSpPr>
          <p:spPr>
            <a:xfrm>
              <a:off x="3289320" y="315288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4"/>
            <p:cNvSpPr/>
            <p:nvPr/>
          </p:nvSpPr>
          <p:spPr>
            <a:xfrm>
              <a:off x="193680" y="2430720"/>
              <a:ext cx="2303640" cy="50472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 identification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5"/>
          <p:cNvSpPr/>
          <p:nvPr/>
        </p:nvSpPr>
        <p:spPr>
          <a:xfrm>
            <a:off x="4071960" y="2660760"/>
            <a:ext cx="48387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 and desig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l condition and cos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ning and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vironmental regulation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nger-term relationship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3841920" y="1662120"/>
            <a:ext cx="476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8"/>
                </a:solidFill>
                <a:latin typeface="Arial"/>
              </a:rPr>
              <a:t>Criteria for supplier assess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dentification and Evaluation -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B51F534F-8E6E-40C8-8D2F-685B6F6E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505320" y="1828800"/>
            <a:ext cx="47242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-price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based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346040" y="27468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EAADA286-A9AD-474D-B4EC-F32788D3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200400" y="2008080"/>
            <a:ext cx="56340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Preferred suppli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plier that has demonstrated its performance capabilities through previous purchase contracts and therefore receives preference during the supplier selec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9D559976-9492-42CC-84C7-0EBF091F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abl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trong case for why purchasing is a critical part of a firm’s supply chain strate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describe the various steps of the purchasing process, and discuss how this process will vary according to the type of good or service being purcha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spend analysis is important and perform a simple spend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3D5452B6-363F-41C9-8B78-B36275ED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3112920" y="2776680"/>
            <a:ext cx="54928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ying firm can provide qualified suppliers with clear descriptions of the item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is high enough to justify the cost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m does not have a preferred 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4"/>
          <p:cNvSpPr/>
          <p:nvPr/>
        </p:nvSpPr>
        <p:spPr>
          <a:xfrm>
            <a:off x="2959200" y="1739880"/>
            <a:ext cx="59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Competitive bidding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1268280" y="274680"/>
            <a:ext cx="787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7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1010B836-D0C5-480D-AD8F-CFE60BA4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3035160" y="2546280"/>
            <a:ext cx="58374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item is new or technically comple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ith only vagu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urchase requires agreement about a wide range of performanc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supplier must participate in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evelopmen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supplier cannot determine ris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d costs without input from the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2590920" y="1766880"/>
            <a:ext cx="63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Negotiation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3998051-7E70-4A89-B1CC-94BF2284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3200400" y="2286000"/>
            <a:ext cx="567216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a large amount of mone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business needs specific requirements that need to be put into writing such as quality levels, delivery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 Narrow"/>
              </a:rPr>
              <a:t>Two basic types of con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xed-price – price does not change for life of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st-based – price tied to cost of selected key input or economic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"/>
          <p:cNvSpPr/>
          <p:nvPr/>
        </p:nvSpPr>
        <p:spPr>
          <a:xfrm>
            <a:off x="2590920" y="175248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Contracting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5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9C13444-DBC4-4E6A-9352-BF943889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423720" y="1739880"/>
            <a:ext cx="2611440" cy="3263760"/>
            <a:chOff x="423720" y="1739880"/>
            <a:chExt cx="2611440" cy="3263760"/>
          </a:xfrm>
        </p:grpSpPr>
        <p:sp>
          <p:nvSpPr>
            <p:cNvPr id="461" name="AutoShape 3"/>
            <p:cNvSpPr/>
            <p:nvPr/>
          </p:nvSpPr>
          <p:spPr>
            <a:xfrm>
              <a:off x="423720" y="3122640"/>
              <a:ext cx="245772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rchase order prepa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4"/>
            <p:cNvSpPr/>
            <p:nvPr/>
          </p:nvSpPr>
          <p:spPr>
            <a:xfrm>
              <a:off x="423720" y="4659480"/>
              <a:ext cx="245772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rds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5"/>
            <p:cNvSpPr/>
            <p:nvPr/>
          </p:nvSpPr>
          <p:spPr>
            <a:xfrm>
              <a:off x="423720" y="427500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ttlement and pa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6"/>
            <p:cNvSpPr/>
            <p:nvPr/>
          </p:nvSpPr>
          <p:spPr>
            <a:xfrm>
              <a:off x="423720" y="389088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eipt and insp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"/>
            <p:cNvSpPr/>
            <p:nvPr/>
          </p:nvSpPr>
          <p:spPr>
            <a:xfrm>
              <a:off x="423720" y="350676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llow-up and expedi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8"/>
            <p:cNvSpPr/>
            <p:nvPr/>
          </p:nvSpPr>
          <p:spPr>
            <a:xfrm>
              <a:off x="1325520" y="17398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9"/>
            <p:cNvSpPr/>
            <p:nvPr/>
          </p:nvSpPr>
          <p:spPr>
            <a:xfrm>
              <a:off x="1332000" y="28796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0"/>
            <p:cNvSpPr/>
            <p:nvPr/>
          </p:nvSpPr>
          <p:spPr>
            <a:xfrm>
              <a:off x="577800" y="2527200"/>
              <a:ext cx="712800" cy="2923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1"/>
            <p:cNvSpPr/>
            <p:nvPr/>
          </p:nvSpPr>
          <p:spPr>
            <a:xfrm>
              <a:off x="1332000" y="20048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2"/>
            <p:cNvSpPr/>
            <p:nvPr/>
          </p:nvSpPr>
          <p:spPr>
            <a:xfrm>
              <a:off x="1690560" y="3035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3"/>
            <p:cNvSpPr/>
            <p:nvPr/>
          </p:nvSpPr>
          <p:spPr>
            <a:xfrm>
              <a:off x="1674720" y="2349360"/>
              <a:ext cx="972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4"/>
            <p:cNvSpPr/>
            <p:nvPr/>
          </p:nvSpPr>
          <p:spPr>
            <a:xfrm>
              <a:off x="938160" y="2333520"/>
              <a:ext cx="1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5"/>
            <p:cNvSpPr/>
            <p:nvPr/>
          </p:nvSpPr>
          <p:spPr>
            <a:xfrm>
              <a:off x="1684440" y="217800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6"/>
            <p:cNvSpPr/>
            <p:nvPr/>
          </p:nvSpPr>
          <p:spPr>
            <a:xfrm>
              <a:off x="1690560" y="3430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7"/>
            <p:cNvSpPr/>
            <p:nvPr/>
          </p:nvSpPr>
          <p:spPr>
            <a:xfrm>
              <a:off x="1690560" y="381492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8"/>
            <p:cNvSpPr/>
            <p:nvPr/>
          </p:nvSpPr>
          <p:spPr>
            <a:xfrm>
              <a:off x="1690560" y="4199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9"/>
            <p:cNvSpPr/>
            <p:nvPr/>
          </p:nvSpPr>
          <p:spPr>
            <a:xfrm>
              <a:off x="1690560" y="458316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0"/>
            <p:cNvSpPr/>
            <p:nvPr/>
          </p:nvSpPr>
          <p:spPr>
            <a:xfrm>
              <a:off x="1674720" y="1924200"/>
              <a:ext cx="180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1"/>
            <p:cNvSpPr/>
            <p:nvPr/>
          </p:nvSpPr>
          <p:spPr>
            <a:xfrm flipH="1">
              <a:off x="938160" y="232092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2"/>
            <p:cNvSpPr/>
            <p:nvPr/>
          </p:nvSpPr>
          <p:spPr>
            <a:xfrm flipH="1" flipV="1">
              <a:off x="937800" y="2824200"/>
              <a:ext cx="180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3"/>
            <p:cNvSpPr/>
            <p:nvPr/>
          </p:nvSpPr>
          <p:spPr>
            <a:xfrm>
              <a:off x="938160" y="2957400"/>
              <a:ext cx="393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4"/>
            <p:cNvSpPr/>
            <p:nvPr/>
          </p:nvSpPr>
          <p:spPr>
            <a:xfrm>
              <a:off x="2959200" y="3084480"/>
              <a:ext cx="75960" cy="191916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79920 h 1919160"/>
                <a:gd name="textAreaBottom" fmla="*/ 1839240 h 19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25"/>
          <p:cNvSpPr/>
          <p:nvPr/>
        </p:nvSpPr>
        <p:spPr>
          <a:xfrm>
            <a:off x="3381480" y="2008080"/>
            <a:ext cx="549252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Purchase order preparation</a:t>
            </a:r>
            <a:br>
              <a:rPr sz="26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4% of firms currently have electronic data interchange (EDI) with some part of their supply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Follow-up and expe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Receipt and insp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Invoice clearance and 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Records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1384200" y="2746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der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AD9D2035-2A3F-428F-81F7-0FCE0F7C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Answers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op 10 commodities by annual spend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vides priority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modities have the most suppliers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lps reduce purchasing 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modities have the lowest spend per supplier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also among top 10, potential for sav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457200" y="5791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 Similar to ABC analysis to identify critical inventory items based on cost and qua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1CFCD33C-0657-43CA-AF6C-0FF746E63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Answer to First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1243080" y="1638360"/>
            <a:ext cx="6834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in Purch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The ABCs of Spe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F635C23A-90C1-4970-9FF8-D560B35A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7C48C453-CE5C-47E2-A0F4-BC10FA7B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70040" y="2776680"/>
            <a:ext cx="7873920" cy="34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ourcing decisions – </a:t>
            </a:r>
            <a:r>
              <a:rPr b="0" lang="en-US" sz="2400" spc="-1" strike="noStrike">
                <a:solidFill>
                  <a:srgbClr val="990098"/>
                </a:solidFill>
                <a:latin typeface="Arial"/>
              </a:rPr>
              <a:t>(discussed in Chapter 10)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, often strategic decisions regarding which products or services will be provided internally and which will be provided by external supply-chai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Purchasing –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ties associated with identifying needs, locating and selecting suppliers, negotiating terms, and following up to ensure suppli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23720" y="1854360"/>
            <a:ext cx="83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ing decisions and purchasing activities serve to link a company with its supply chai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78C24059-DCC9-45D7-83C4-05EF9F18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0080" y="3120840"/>
            <a:ext cx="7391520" cy="27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ete globally, you need to purchase glo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urchasing efforts are supported by advances in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8200" y="189216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8"/>
                </a:solidFill>
                <a:latin typeface="Arial"/>
              </a:rPr>
              <a:t>The Changing Global Competitive Land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079EFD24-276C-4677-A981-0BB751CC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00080" y="2660760"/>
            <a:ext cx="73915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average manufacturer, 52.5% of the value of shipments comes from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represents a major opportunity to increase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8200" y="189216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8"/>
                </a:solidFill>
                <a:latin typeface="Arial"/>
              </a:rPr>
              <a:t>Financi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A59BB5E4-EA24-4C26-9B7D-B82FED1D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1520" y="2660760"/>
            <a:ext cx="66834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Earnings and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6,4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8,4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ax e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$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Selected Balance Shee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$3,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$16,1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47760" y="1739880"/>
            <a:ext cx="852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owe’s Compa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492960" y="2514600"/>
            <a:ext cx="2651040" cy="1344600"/>
          </a:xfrm>
          <a:prstGeom prst="wedgeRoundRectCallout">
            <a:avLst>
              <a:gd name="adj1" fmla="val -78504"/>
              <a:gd name="adj2" fmla="val 55194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ery dollar saved in purchasing for increases pretax profit by one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338880" y="4197240"/>
            <a:ext cx="2500200" cy="1670040"/>
          </a:xfrm>
          <a:prstGeom prst="wedgeRoundRectCallout">
            <a:avLst>
              <a:gd name="adj1" fmla="val -76412"/>
              <a:gd name="adj2" fmla="val 29564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ery dollar sav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 purchasing invento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wers total assets by one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DA8EEAA9-6A0A-49CA-86DF-7268EBC7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1520" y="2698920"/>
            <a:ext cx="66834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Earnings and Expenses     </a:t>
            </a:r>
            <a:r>
              <a:rPr b="1" i="1" lang="en-US" sz="2000" spc="-1" strike="noStrike">
                <a:solidFill>
                  <a:srgbClr val="990098"/>
                </a:solidFill>
                <a:latin typeface="Arial Narrow"/>
              </a:rPr>
              <a:t>Current       With 3%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$26,49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26,4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$18,46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7,9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tax earnin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$2,35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2,9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Selected Balance Shee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3,9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$3,8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,10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,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31880" y="1816200"/>
            <a:ext cx="76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% purchasing reduction in C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915240" y="2776680"/>
            <a:ext cx="2036520" cy="1344600"/>
          </a:xfrm>
          <a:prstGeom prst="wedgeRoundRectCallout">
            <a:avLst>
              <a:gd name="adj1" fmla="val -84449"/>
              <a:gd name="adj2" fmla="val 44805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tax earnings increase by $554 (23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915240" y="4543560"/>
            <a:ext cx="2035080" cy="1074600"/>
          </a:xfrm>
          <a:prstGeom prst="wedgeRoundRectCallout">
            <a:avLst>
              <a:gd name="adj1" fmla="val -85101"/>
              <a:gd name="adj2" fmla="val 45717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 increases from 14.6% to 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C5FA9A7A-FBF6-4B56-8DCE-31C44C8F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00080" y="2660760"/>
            <a:ext cx="73915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xploit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08200" y="189216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8"/>
                </a:solidFill>
                <a:latin typeface="Arial"/>
              </a:rPr>
              <a:t>Performance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2:51:18Z</dcterms:created>
  <dc:creator>Kenneth A. Shaw</dc:creator>
  <dc:description/>
  <dc:language>en-US</dc:language>
  <cp:lastModifiedBy>JHoover</cp:lastModifiedBy>
  <dcterms:modified xsi:type="dcterms:W3CDTF">2011-07-03T20:04:59Z</dcterms:modified>
  <cp:revision>61</cp:revision>
  <dc:subject>Chapter 11, Bozarth &amp; Handfield, 2/e</dc:subject>
  <dc:title>Purcha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Prentice-Hall</vt:lpwstr>
  </property>
</Properties>
</file>